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click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89E-0A5A-40DC-91E7-89249A46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7726-55C7-47A0-A467-FCC55429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2B57-2275-4716-8675-D4CC8883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7169-1C2A-4462-9761-508D5D70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A533-2A7B-4E6A-A494-9FE7BF1F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1B61-201C-4EE5-B020-3DDACB7B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E754-35BB-430A-B002-5529F516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7A9D-D7B6-428E-AE61-F405BE6D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907B-6111-417C-9B7D-BD722AF7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015A-2875-4590-853F-DD0172D7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B069-2FA8-43C0-959D-B323FCD1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89F-D537-4124-B81E-64DACF16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A886-6987-41F5-B9F0-C1568C34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AFE5-0FA3-4030-A675-4CC62657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E3C0-8419-48C9-8153-571A07CE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EB4F-8171-4275-B5F5-0E700DB6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CB6F-4400-43F2-AE9C-C8A2AF1D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9D656-4C69-4C90-8203-41391404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F218A-E038-4C9F-B7C9-3C9B9E6C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4AC53-A548-4392-B3D8-A9A5AC51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A1749-1D8F-440C-A5DC-A1095F30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EACC2-A074-4643-957C-2EAA8E69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F04A-18E4-402F-8C98-26C2DB23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79856-9A54-44EC-98A9-13F40E70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6CE90-E8AC-4766-91D7-CC7CA182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3625C-FB9E-42F5-99E9-50A11B8B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6F418-9EA3-487E-9DA9-B96BDBFD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CF03D-80D3-4732-A239-BD9AB1F7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19634-161F-4FF8-AAA1-FCD5C9E7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BE9BD-749A-4021-9777-98ECFCCE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76E7-3544-4480-8253-C241E339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5283-71F0-4AB9-9A28-CF4A38EF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16D0-8F10-486E-BEB3-59178D0C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80C-5ABD-4E08-A62C-75689207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59E-1C12-4E89-A019-51B41E7F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AEF-43D2-4D41-BFDA-2492FB00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7A31-B3D4-4765-B2F3-5E2B60BC572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3E92-3D08-48CF-A891-9CA0A2627059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47"/>
            </a:gs>
            <a:gs pos="50000">
              <a:srgbClr val="ffff99"/>
            </a:gs>
            <a:gs pos="100000">
              <a:srgbClr val="76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1348-A16A-4FDE-9CEF-B35604FABBA0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8395200" y="409320"/>
            <a:ext cx="282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9B69-0570-44D9-8EFC-129E3AA4B08F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1571760" y="428760"/>
            <a:ext cx="157140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5786280" y="428760"/>
            <a:ext cx="1428840" cy="107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785880" y="1643040"/>
          <a:ext cx="3214800" cy="73188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Viner Hand ITC"/>
                          <a:ea typeface="Times New Roman"/>
                        </a:rPr>
                        <a:t>Istituto italiano per gli studi filosofi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000760" y="1571760"/>
          <a:ext cx="3466800" cy="731880"/>
        </p:xfrm>
        <a:graphic>
          <a:graphicData uri="http://schemas.openxmlformats.org/drawingml/2006/table">
            <a:tbl>
              <a:tblPr/>
              <a:tblGrid>
                <a:gridCol w="346680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Viner Hand ITC"/>
                          <a:ea typeface="Times New Roman"/>
                        </a:rPr>
                        <a:t>Associazione etnea studi storico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Viner Hand ITC"/>
                          <a:ea typeface="Times New Roman"/>
                        </a:rPr>
                        <a:t>filosofi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3"/>
          <p:cNvSpPr/>
          <p:nvPr/>
        </p:nvSpPr>
        <p:spPr>
          <a:xfrm>
            <a:off x="714240" y="2835720"/>
            <a:ext cx="7858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9 </a:t>
            </a:r>
            <a:r>
              <a:rPr b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20 Marzo 2009, ore 16 - 1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Liceo socio</a:t>
            </a:r>
            <a:r>
              <a:rPr b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psico</a:t>
            </a:r>
            <a:r>
              <a:rPr b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pedagogic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 G. Turrisi Colonn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via F. Filzi, 24 (piazza Montessori) Cat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’amicizia  (φιλ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ί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α) (2)</a:t>
            </a:r>
            <a:br>
              <a:rPr sz="24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, 1, 1155a 23-2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14200" y="1785600"/>
            <a:ext cx="8715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Quando si è amici, non c’è alcun bisogno 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giustizia, mentre, quando si è giusti, c’è anco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bisogno di amicizia ed il più alto livello 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giustizia si ritiene che consista in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atteggiamento di amicizia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9F2D-B8F6-4C12-83A1-8D44EF8213A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’amicizia  (φιλ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ί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α) (3)</a:t>
            </a:r>
            <a:br>
              <a:rPr sz="20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, 1, 1155a 23-2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2560" y="1643040"/>
            <a:ext cx="87138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E non solo è una cosa necessaria, ma è anche una cosa bella: infatti, noi lodiamo coloro che amano gli amici, anzi si ritiene che l’avere molti amici sia qualcosa di bello; ed inoltre, si pensa che sono gli stessi uomini che sono buoni e amic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310E-6041-4753-AD35-42314560CBC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a concordia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, 6, 1167a 27-2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13840" y="1285920"/>
            <a:ext cx="8713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871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le città vi è concordia quando i cittadini la pensano alla stessa maniera a proposito dei loro interessi, e scelgono e mettono in pratica le stesse cose, quelle che hanno comunitariamente giudicate opportu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concordi, quindi, sulle cose da farsi, almeno su quelle importanti e che possono soddisfare le due parti o tutte le parti interess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0BCD-699E-43CB-9120-A3C80D0E313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a giustizia (1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ca Nicomache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, 1, 1130a 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714680"/>
            <a:ext cx="87868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Verdana"/>
              </a:rPr>
              <a:t>    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Verdana"/>
              </a:rPr>
              <a:t>[…] la giustizia, sola tra le virtù, è considerata anche «bene degli altri», perché è diretta agli altri. Essa, infatti, fa ciò che è vantaggioso per un altro, sia per uno che detiene il potere sia per uno che è membro della comunità. Ciò posto, il peggiore degli uomini è colui che esercita la propria malvagità sia verso se stesso sia verso gli amic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7638-4548-4B0B-B7A2-4B7D63D47EE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a giustizia (2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ca Nicomache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, 1, 1130a 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2920" y="1499760"/>
            <a:ext cx="878688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Verdana"/>
              </a:rPr>
              <a:t>mentre </a:t>
            </a:r>
            <a:r>
              <a:rPr b="1" i="1" lang="it-IT" sz="3200" spc="-1" strike="noStrike">
                <a:solidFill>
                  <a:srgbClr val="c00000"/>
                </a:solidFill>
                <a:latin typeface="Times New Roman"/>
                <a:ea typeface="Verdana"/>
              </a:rPr>
              <a:t>il migliore non è quello che esercita la virtù verso se stesso, ma quello che la esercita nei riguardi degli altri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Verdana"/>
              </a:rPr>
              <a:t>; questa, infatti, è un’impresa diffic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00000"/>
                </a:solidFill>
                <a:latin typeface="Times New Roman"/>
                <a:ea typeface="Verdana"/>
              </a:rPr>
              <a:t>La virtù così determinata non è quindi una parte della virtù, ma la virtù nella sua completezza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Verdana"/>
              </a:rPr>
              <a:t>, e l’ingiustizia che le si contrappone non è una parte del vizio, ma il vizio nella sua complete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E279-161E-4EFE-B5AA-85C381B5F1B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00"/>
                </a:solidFill>
                <a:latin typeface="Times New Roman"/>
              </a:rPr>
              <a:t>AMICIZIA E GIUSTIZ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AMICIZIA </a:t>
            </a:r>
            <a:r>
              <a:rPr b="1" i="1" lang="it-IT" sz="3200" spc="-1" strike="noStrike">
                <a:solidFill>
                  <a:srgbClr val="2a47d6"/>
                </a:solidFill>
                <a:latin typeface="Times New Roman"/>
              </a:rPr>
              <a:t>(</a:t>
            </a:r>
            <a:r>
              <a:rPr b="1" i="1" lang="el-GR" sz="3200" spc="-1" strike="noStrike">
                <a:solidFill>
                  <a:srgbClr val="2a47d6"/>
                </a:solidFill>
                <a:latin typeface="Vusillus Old Face"/>
                <a:ea typeface="Vusillus Old Face"/>
              </a:rPr>
              <a:t>φιλία</a:t>
            </a:r>
            <a:r>
              <a:rPr b="1" i="1" lang="it-IT" sz="3200" spc="-1" strike="noStrike">
                <a:solidFill>
                  <a:srgbClr val="2a47d6"/>
                </a:solidFill>
                <a:latin typeface="Vusillus Old Face"/>
                <a:ea typeface="Vusillus Old Fac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struttura antropologica originaria e fondante (momento affet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GIUSTIZIA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3200" spc="-1" strike="noStrike">
                <a:solidFill>
                  <a:srgbClr val="2a47d6"/>
                </a:solidFill>
                <a:latin typeface="Times New Roman"/>
              </a:rPr>
              <a:t>(</a:t>
            </a:r>
            <a:r>
              <a:rPr b="1" i="1" lang="el-GR" sz="3200" spc="-1" strike="noStrike">
                <a:solidFill>
                  <a:srgbClr val="2a47d6"/>
                </a:solidFill>
                <a:latin typeface="Vusillus Old Face"/>
                <a:ea typeface="Vusillus Old Face"/>
              </a:rPr>
              <a:t>δικαιοσύνη</a:t>
            </a:r>
            <a:r>
              <a:rPr b="1" i="1" lang="it-IT" sz="3200" spc="-1" strike="noStrike">
                <a:solidFill>
                  <a:srgbClr val="2a47d6"/>
                </a:solidFill>
                <a:latin typeface="Vusillus Old Face"/>
                <a:ea typeface="Vusillus Old Fac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a) razionalizzazione dei rapporti intersoggettivi mediante n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b) virt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AMICIZIA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in quanto virtù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826920" y="2205000"/>
            <a:ext cx="289080" cy="1079640"/>
          </a:xfrm>
          <a:prstGeom prst="downArrow">
            <a:avLst>
              <a:gd name="adj1" fmla="val 50000"/>
              <a:gd name="adj2" fmla="val 9336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826920" y="3860640"/>
            <a:ext cx="289080" cy="1729080"/>
          </a:xfrm>
          <a:prstGeom prst="downArrow">
            <a:avLst>
              <a:gd name="adj1" fmla="val 50000"/>
              <a:gd name="adj2" fmla="val 14953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9216-6A88-491D-82FD-87EF1691700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00"/>
                </a:solidFill>
                <a:latin typeface="Times New Roman"/>
              </a:rPr>
              <a:t>FORME DELL’AMICIZ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utilit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piac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bene        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amicizia perfe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AutoShape 6"/>
          <p:cNvCxnSpPr>
            <a:stCxn id="242" idx="0"/>
            <a:endCxn id="242" idx="0"/>
          </p:cNvCxnSpPr>
          <p:nvPr/>
        </p:nvCxnSpPr>
        <p:spPr>
          <a:xfrm>
            <a:off x="4608000" y="11250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AutoShape 7"/>
          <p:cNvCxnSpPr>
            <a:stCxn id="242" idx="1"/>
            <a:endCxn id="242" idx="1"/>
          </p:cNvCxnSpPr>
          <p:nvPr/>
        </p:nvCxnSpPr>
        <p:spPr>
          <a:xfrm>
            <a:off x="250560" y="36460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5" name="AutoShape 8"/>
          <p:cNvSpPr/>
          <p:nvPr/>
        </p:nvSpPr>
        <p:spPr>
          <a:xfrm>
            <a:off x="3348000" y="1844640"/>
            <a:ext cx="360360" cy="1944720"/>
          </a:xfrm>
          <a:custGeom>
            <a:avLst/>
            <a:gdLst>
              <a:gd name="textAreaLeft" fmla="*/ 0 w 360360"/>
              <a:gd name="textAreaRight" fmla="*/ 129960 w 3603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3780000" y="2205000"/>
            <a:ext cx="208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amicizie accident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"/>
          <p:cNvSpPr/>
          <p:nvPr/>
        </p:nvSpPr>
        <p:spPr>
          <a:xfrm>
            <a:off x="5724360" y="1557360"/>
            <a:ext cx="433440" cy="4103640"/>
          </a:xfrm>
          <a:custGeom>
            <a:avLst/>
            <a:gdLst>
              <a:gd name="textAreaLeft" fmla="*/ 0 w 433440"/>
              <a:gd name="textAreaRight" fmla="*/ 304200 w 433440"/>
              <a:gd name="textAreaTop" fmla="*/ 171000 h 4103640"/>
              <a:gd name="textAreaBottom" fmla="*/ 393300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6143760" y="2714760"/>
            <a:ext cx="285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reciproc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2060"/>
                </a:solidFill>
                <a:latin typeface="Verdana"/>
                <a:ea typeface="Verdana"/>
              </a:rPr>
              <a:t>ἀ</a:t>
            </a:r>
            <a:r>
              <a:rPr b="1" i="1" lang="el-GR" sz="2800" spc="-1" strike="noStrike">
                <a:solidFill>
                  <a:srgbClr val="002060"/>
                </a:solidFill>
                <a:latin typeface="Verdana"/>
                <a:ea typeface="Verdana"/>
              </a:rPr>
              <a:t>ντιφίλησι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egnaposto numero diapositiva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3BD6-8485-4D7E-AD22-9C7CE32EAB1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’amicizia perfetta (1)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III, 3, 1156b 7-12 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[l’amicizia perfetta è] l’amicizia degli uomi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buoni e simili per virtù: costoro, infatt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vogliono il bene l’uno dell’altro, in modo simi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in quanto sono buoni, ed essi sono buoni per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stessi. Coloro che vogliono il bene degli am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per loro stessi sono i più grandi amici; infat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provano questo sentimento </a:t>
            </a: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per quello che g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amici sono per se stessi e non accidentalmente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8C14-67C7-46C1-B7A2-76792CAF8E9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’amicizia perfetta (2)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X,  11, 1171b 15-17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[…] si può ritenere che noi dobbia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sollecitamente invitare gli amici a partecip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alla nostra buona sorte (ché è bello comportar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da benefattori), ma esitare a chiamarli nel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cattiva; bisogna, infatti, farli partecipare 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meno possibile ai nostri mali. […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F0E0-D674-4043-8B1D-3ED73694E80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’amicizia perfetta (3)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X,  11, 1171b 20-23</a:t>
            </a:r>
            <a:r>
              <a:rPr b="1" lang="it-IT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Viceversa, conviene senza dubbio che no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andiamo a soccorrere gli amici sfortuna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senza farci chiamare, e sollecitam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(giacché è proprio di un amico far il be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e soprattutto a coloro che si trovano n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bisogno, anche se non pretendono null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per entrambi, infatti, è più bello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piacevole).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86FC-C9D7-4D98-9A35-0AD59BA5970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8267760" y="410040"/>
            <a:ext cx="40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B3C4-3BB0-4EA1-9AE8-B4625FFB1B2B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387360"/>
            <a:ext cx="90280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ncezione aristotelica della polit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e scienza della pra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'attualità di una proposta “inattua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La politica, scienza architettonica della pra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) "Poiesi" e "prassi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) L'etica-politica scienza di ciò che l'uomo de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s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Le categorie fondamentali della poli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) L'originaria costituzione intersogget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ll'uomo: "amicizia" e "giustizia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) La vita buona: vita teoretica e vita at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’amicizia fra disuguali (1)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III,  12, 1162a  5-7</a:t>
            </a:r>
            <a:r>
              <a:rPr b="1" lang="it-IT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13840" y="1643040"/>
            <a:ext cx="87138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micizia dei figli verso i genitori e degli uomini verso gli dei è come un’amicizia verso un essere buono e superiore: essi, infatti, hanno dato loro i benefici più grandi, giacché sono gli autori della loro esistenza, del loro allevamento, e, mentre crescono, della loro educazion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0B86-7B06-43A7-B6BE-C0652EC7CC4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’amicizia fra disuguali (2)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III,  14, 1163b 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13840" y="1571400"/>
            <a:ext cx="87138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l’amicizia richiede è il contraccambio possibile, non quello che sarebbe adeguato al merito, giacché ciò non sarebbe neppure possibile in tutti i casi, come nel caso degli onori da tributarsi agli dei ed ai genitori; nessuno infatti potrebbe mai rendere loro il contraccambio adeguato, ma chi li venera secondo le sue possibilità è ritenuto uomo virtuos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E533-D959-421E-8092-027FDC5DB20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00"/>
                </a:solidFill>
                <a:latin typeface="Times New Roman"/>
              </a:rPr>
              <a:t>L’amicizia: strut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3399"/>
                </a:solidFill>
                <a:latin typeface="Times New Roman"/>
              </a:rPr>
              <a:t>Reciproc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it-IT" sz="36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000000"/>
                </a:solidFill>
                <a:latin typeface="Times New Roman"/>
              </a:rPr>
              <a:t>1                    </a:t>
            </a:r>
            <a:r>
              <a:rPr b="1" i="1" lang="it-IT" sz="36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000000"/>
                </a:solidFill>
                <a:latin typeface="Times New Roman"/>
              </a:rPr>
              <a:t>1                    </a:t>
            </a:r>
            <a:r>
              <a:rPr b="1" i="1" lang="it-IT" sz="36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4140360" y="2852640"/>
            <a:ext cx="1368360" cy="144720"/>
          </a:xfrm>
          <a:prstGeom prst="leftRightArrow">
            <a:avLst>
              <a:gd name="adj1" fmla="val 50000"/>
              <a:gd name="adj2" fmla="val 188229"/>
            </a:avLst>
          </a:prstGeom>
          <a:solidFill>
            <a:srgbClr val="2a4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2700360" y="37162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4211640" y="4005360"/>
            <a:ext cx="1297080" cy="144360"/>
          </a:xfrm>
          <a:prstGeom prst="rightArrow">
            <a:avLst>
              <a:gd name="adj1" fmla="val 50000"/>
              <a:gd name="adj2" fmla="val 22462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4067280" y="4581360"/>
            <a:ext cx="1368360" cy="287640"/>
          </a:xfrm>
          <a:prstGeom prst="leftArrow">
            <a:avLst>
              <a:gd name="adj1" fmla="val 50000"/>
              <a:gd name="adj2" fmla="val 1189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2484360" y="544500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micizia tra disugu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egnaposto numero diapositiva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323B-ABCB-4474-9BC1-04702C1E314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00"/>
                </a:solidFill>
                <a:latin typeface="Times New Roman"/>
              </a:rPr>
              <a:t>L’amicizia: strut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3399"/>
                </a:solidFill>
                <a:latin typeface="Times New Roman"/>
              </a:rPr>
              <a:t>Simme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it-IT" sz="36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000000"/>
                </a:solidFill>
                <a:latin typeface="Times New Roman"/>
              </a:rPr>
              <a:t>1                    </a:t>
            </a:r>
            <a:r>
              <a:rPr b="1" i="1" lang="it-IT" sz="36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000000"/>
                </a:solidFill>
                <a:latin typeface="Times New Roman"/>
              </a:rPr>
              <a:t>1                    </a:t>
            </a:r>
            <a:r>
              <a:rPr b="1" i="1" lang="it-IT" sz="36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i="1" lang="it-IT" sz="36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4140360" y="2781360"/>
            <a:ext cx="1368360" cy="360360"/>
          </a:xfrm>
          <a:prstGeom prst="leftRightArrow">
            <a:avLst>
              <a:gd name="adj1" fmla="val 50000"/>
              <a:gd name="adj2" fmla="val 75592"/>
            </a:avLst>
          </a:prstGeom>
          <a:solidFill>
            <a:srgbClr val="2a4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2700360" y="37162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6"/>
          <p:cNvSpPr/>
          <p:nvPr/>
        </p:nvSpPr>
        <p:spPr>
          <a:xfrm>
            <a:off x="4211640" y="3933720"/>
            <a:ext cx="1297080" cy="358920"/>
          </a:xfrm>
          <a:prstGeom prst="rightArrow">
            <a:avLst>
              <a:gd name="adj1" fmla="val 50000"/>
              <a:gd name="adj2" fmla="val 9034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4140360" y="4508640"/>
            <a:ext cx="1368360" cy="360360"/>
          </a:xfrm>
          <a:prstGeom prst="leftArrow">
            <a:avLst>
              <a:gd name="adj1" fmla="val 50000"/>
              <a:gd name="adj2" fmla="val 949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2484360" y="544500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micizia tra ugu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egnaposto numero diapositiva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E6AA-C714-453E-A926-FD4DFCDA56A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Testi di riferimento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Etica Nicomachea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: V, VIII, 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Politica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: I,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8702-ED64-4FB6-80E6-60CA3B65CE4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a città  (1)</a:t>
            </a:r>
            <a:br>
              <a:rPr sz="24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Politic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 2, 1253a 2-1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2560" y="1356840"/>
            <a:ext cx="87138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…] è chiaro che la città appartiene ai prodotti naturali, che l’uomo è un animale che per natura deve vivere in una città e che chi non vive in una città, per la sua natura e non per caso, o è un essere inferiore o è più che un uomo […] E chi è tale per natura è anche desideroso di guerra, in quanto non ha legami ed è come una pedina isol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83F4-CBB3-4937-997F-20807D56C33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a città  (2)</a:t>
            </a:r>
            <a:br>
              <a:rPr sz="24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Politic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 2, 1253a 2-1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2560" y="1571760"/>
            <a:ext cx="87138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iò è chiaro che l’uomo è animale più socievole di qualsiasi ape e di qualsiasi altro animale che viva in greggi. Infatti, secondo quanto sosteniamo, la natura non fa nulla invano, e l’uomo è l’unico animale che abbia la favella […]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9727-9944-4B88-BB5D-906C30629E8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a città  (3)</a:t>
            </a:r>
            <a:br>
              <a:rPr sz="24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Politic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, 6, 1278b 17-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2560" y="1785600"/>
            <a:ext cx="8713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…] si è detto che l’uomo è animale politico per natura. Perciò gli uomini, anche quando nessun bisogno di aiuto reciproco li spinga, desiderano nondimeno vivere insieme; del resto a ciò li sollecita anche l’interesse comune, in quanto così ciascuno vive megli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1A26-2099-415F-BF92-1D725111921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a città  (4)</a:t>
            </a:r>
            <a:br>
              <a:rPr sz="24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Politic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, 9, 1280b 23-1281a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2560" y="1285560"/>
            <a:ext cx="8713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pertanto evidente che la comunità cittadina non è costituita soltanto dall’identità del luogo, dall’astinenza dal danno reciproco e dalla garanzia dei rapporti commerciali, perché, sebbene queste cose siano imprescindibili per l’esistenza della città, tuttavia, anche se si realizzano tutte, non c’è ancora una città, ma questa è la comunità che garantisce la buona vita e alle famiglie e alle stirpi, e ha come fine una vita indipendente e perfet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C4CC-5138-45A5-A55C-12B557E5C86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a città  (5)</a:t>
            </a:r>
            <a:br>
              <a:rPr sz="24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Politic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, 9, 1280b 23-1281a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3840" y="1571400"/>
            <a:ext cx="87138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tutto ciò è opera dell’amicizia in quanto essa è la preferenza per una vita in comune. Fine della città è dunque la buona vita e per raggiungere questo fine si impiegano tutti quei mezzi. […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iò bisogna ammettere che la comunità politica abbia come fine le belle azioni e non semplicemente la convivenz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F243-5764-4558-8131-5D8A5347F66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’amicizia  (φιλ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ί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α) (1)</a:t>
            </a:r>
            <a:br>
              <a:rPr sz="24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, 1, 1155a 23-2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sembra […] che sia l’amicizia a tenere insie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le città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, ed i legislatori si preoccupano più di l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che della giustizia; infatti la concor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[ὁμόνοια] sembra essere qualcosa di sim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all’amicizia; ed è questa che essi han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soprattutto di mira, ed è la discordia,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quanto è una specie di inimicizia, che es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cercano soprattutto di scacci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F9EA-D593-4DBA-A085-57ED5E38CE9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8:03:05Z</dcterms:created>
  <dc:creator>User name placeholder</dc:creator>
  <dc:description/>
  <dc:language>en-US</dc:language>
  <cp:lastModifiedBy>User</cp:lastModifiedBy>
  <dcterms:modified xsi:type="dcterms:W3CDTF">2009-03-17T10:37:41Z</dcterms:modified>
  <cp:revision>40</cp:revision>
  <dc:subject/>
  <dc:title>Diapositiva 1</dc:title>
</cp:coreProperties>
</file>